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32C6-1E6F-4BD7-BA60-80DEE6DE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824-EB9B-41EE-B87C-DD0120ED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4CD3-2F00-4360-8570-009076342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8A99-7DD8-4AA7-BD28-2BC9FB0C3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9025-B761-4A79-B1C0-9001670D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F946-EBF0-4C6F-9B0D-2D2757A5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AEBE-5081-4E95-BDFE-894AF754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4792-1FE8-4BF1-B7E7-5ED28548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32BD-0E95-47FC-83D1-32BC878B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DE9D-1B5E-4DC0-BF78-F7C6C6098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B42E-2C5C-4FB7-BFF3-1F35BD58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5BF6-07EE-4775-8FCD-A49E25EE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508E-9EEA-4F52-BB43-2A525B6D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AAA7-984C-4ED4-AA18-F366002F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DC32-F307-4724-96E1-3CEEF0DD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D35A-4063-44A6-8BD6-FF75223B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AA87-1E0E-4487-8C02-44B8F26C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3EAF7-F30A-4BD7-B62E-E71EE37A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67091-3E6F-48C8-8168-D442D127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E66BA-EC12-47F3-92B0-4ECE6436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929A5-BB0A-4B22-BA52-4903DCF2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41FA0-14F2-4A8A-A02D-7A3B9BE6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F6B9-4561-47C8-A02D-058B2D70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B3ADC-F31F-4EBE-BF82-05B4F219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B359F-74DF-4EFD-876F-528EB2BC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A4291-325E-4DAF-80C4-43190369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E70B2-63D1-4669-A5C1-992BCA99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66A95-A57A-4F67-996E-92850D16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C91A8-D89D-4D10-B460-9B4B1BF7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4B9AE-D560-4A24-AEC1-0991EE38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88DE0-C4F4-45E8-8F24-BD243C8A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ACA07-9F45-4BF0-B779-98ABE0AF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AD1E1-FE94-4194-884D-CC28F900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14FF-F7CA-4570-BFA1-38553346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1342B-81E3-4D3A-AD4A-C5E53DCE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8206C-D30D-40D6-BDF7-D15D6175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46085-7CDE-4FA7-8D1F-A3A5F9A1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B4F8A-72F6-497A-9688-8FFDBB64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CE700-625C-449C-9A49-7E443EB5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F7636-41DE-42CE-ADC7-35568C21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B018A-E134-4866-9EF5-E79BF780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584C8-3C1C-4576-B1EE-841D5348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8977F-CBC7-45CF-A741-75775984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D17E4-15BC-4031-AC6A-E155AF11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0DAF-8C33-46C7-A391-52264948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483DB-C868-4E8B-8ED2-EE345883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98EDA-D8DF-4FE1-AE54-DEA76961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51F2D-AFB5-44F5-88D9-974B4509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81990-BCEB-40BA-8927-D9F0E975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230B5-58FE-45E4-9D4E-7A62F673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825D9-72A3-4192-B17D-58F9D5C4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5BD7A-4B01-4AA7-9B99-35CD3EF6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F85B2-4CD1-4DDC-A4A1-8BA93141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1E370-507A-4C4B-A878-E5B913D7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546C6-F07D-4D55-AD1A-D483749F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B1C-C8A0-4E45-B3D0-BE932080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7BBE2-50EB-4DFB-BAC5-3351C5BE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512F1-987C-4405-B5C7-1532E38C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FE98E-A005-4FEE-A7E4-620B561D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A1B6F-8171-4A1F-80CB-784463F4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66089-4716-4EE1-A0E0-F2378348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8AFBD-3AF0-4DB3-9C90-F6F071E0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E4A69-AA8F-4722-B66B-27A9EBBF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97880-D6EB-49FC-889D-AC99322C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03482-8897-4084-BCFB-7C69497F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90AA7-EACD-4899-B146-8B81D97F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93F3-6FD5-4578-89F1-68DF6B14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43E4D-7C08-47DC-8C0D-347AA34B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2905C-78E6-4B44-9F12-2F7FD7F6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2B6F2-48B3-4B13-AB63-FDA75195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006D3-2D4D-4F3F-99CA-3773D76E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8AF96-6549-4984-892D-8146D4E1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9050F-1D1F-4840-B2CC-3661430B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AF68E-1B9E-4BFD-B82B-223F1D2B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22783-2C23-4C9C-A1EC-CC901B6F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70AD1-50CE-4596-BBA5-1933467B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EDD1C-91C4-4D16-833F-2C710553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0E23-5A1E-48D1-8AEF-6625ED1B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1A335-0733-4415-A2E4-EC6DBDDE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C9E7D-E611-44DA-A344-C27EDC46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48D4B-39A8-4102-AC16-DB8BC40F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F1045-87D7-4C39-854E-F8F10057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91CF4-89F9-473A-A164-BA9FA2E5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0621D-30A4-4F53-83A0-0E3C0B2E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BAEF9-8B17-47EC-BF66-DD5B7113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CBA45-3F6C-43CE-946A-A977246B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D8742-622C-4730-B200-4DCE980F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1167C-1680-43D3-8A3B-C266C08A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740D-F158-4132-9846-70B5BEE4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306B5-3333-4139-9982-10ABAC21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EB9AE-8D89-4B45-917D-A884AA27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D1D2E-F9E9-4168-979A-25DA431A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C4208-F3D4-4C63-85E8-8592A5A9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F7277-4E7C-4D1C-B39F-7EBBD894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D860C-26EA-47AD-ABDE-795013F7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D055D-EC05-4946-9B11-FE84B20A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3927-073F-43B1-BB1C-83E0F022FF2C}" type="slidenum">
              <a:rPr b="0" lang="en-US" sz="1400" spc="-1" strike="noStrike">
                <a:solidFill>
                  <a:srgbClr val="6666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F6E6-3431-4FCD-AB3B-5B0434FD79BB}" type="slidenum">
              <a:rPr b="0" lang="en-US" sz="1400" spc="-1" strike="noStrike">
                <a:solidFill>
                  <a:srgbClr val="6666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2d2d2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2d2d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2d2d2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855F-7BA6-4528-A1ED-575D98421E25}" type="slidenum">
              <a:rPr b="0" lang="en-US" sz="1400" spc="-1" strike="noStrike">
                <a:solidFill>
                  <a:srgbClr val="d2d2d2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AF6D-0A79-4425-9B08-8D8DECEB9AA1}" type="slidenum">
              <a:rPr b="0" lang="en-US" sz="1400" spc="-1" strike="noStrike">
                <a:solidFill>
                  <a:srgbClr val="6666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9066-C9BF-4F5A-9E74-980591101436}" type="slidenum">
              <a:rPr b="0" lang="en-US" sz="1400" spc="-1" strike="noStrike">
                <a:solidFill>
                  <a:srgbClr val="6666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2DE9-5BE7-44EF-8178-93AC4C0A5D78}" type="slidenum">
              <a:rPr b="0" lang="en-US" sz="1400" spc="-1" strike="noStrike">
                <a:solidFill>
                  <a:srgbClr val="6666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2d2d2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2d2d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2d2d2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1BFD-3D49-423B-B053-270A69785564}" type="slidenum">
              <a:rPr b="0" lang="en-US" sz="1400" spc="-1" strike="noStrike">
                <a:solidFill>
                  <a:srgbClr val="d2d2d2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e400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e4005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6666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5E6A-0D84-446F-98C2-903154F97036}" type="slidenum">
              <a:rPr b="0" lang="en-US" sz="1400" spc="-1" strike="noStrike">
                <a:solidFill>
                  <a:srgbClr val="666666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28400" y="1785960"/>
            <a:ext cx="8305560" cy="14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Hypocalcemia</a:t>
            </a:r>
            <a:endParaRPr b="0" lang="en-US" sz="4000" spc="-1" strike="noStrike">
              <a:solidFill>
                <a:srgbClr val="666666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Content Placeholder 3" descr="chovstek.png"/>
          <p:cNvPicPr/>
          <p:nvPr/>
        </p:nvPicPr>
        <p:blipFill>
          <a:blip r:embed="rId1"/>
          <a:stretch/>
        </p:blipFill>
        <p:spPr>
          <a:xfrm>
            <a:off x="357120" y="714240"/>
            <a:ext cx="8450280" cy="537048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3"/>
          <p:cNvSpPr/>
          <p:nvPr/>
        </p:nvSpPr>
        <p:spPr>
          <a:xfrm>
            <a:off x="0" y="72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714240" y="6334200"/>
            <a:ext cx="807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Signs &amp; Symptoms: A 2-in-1 Reference for Nurses, Copyright © 2007 Lippincott Williams &amp; Wilkins, </a:t>
            </a:r>
            <a:r>
              <a:rPr b="0" i="1" lang="en-US" sz="1400" spc="-1" strike="noStrike">
                <a:solidFill>
                  <a:srgbClr val="ffffff"/>
                </a:solidFill>
                <a:latin typeface="Gill Sans MT"/>
              </a:rPr>
              <a:t>www.wrongdiagnosis.com/bookimages/14/4721.1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Content Placeholder 3" descr="trousseau.jpg"/>
          <p:cNvPicPr/>
          <p:nvPr/>
        </p:nvPicPr>
        <p:blipFill>
          <a:blip r:embed="rId1"/>
          <a:stretch/>
        </p:blipFill>
        <p:spPr>
          <a:xfrm>
            <a:off x="357120" y="785880"/>
            <a:ext cx="3521160" cy="51656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071600" y="214200"/>
            <a:ext cx="46861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Trousseau sign:</a:t>
            </a:r>
            <a:br>
              <a:rPr sz="26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(very uncomfortable and painful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A blood pressure cuff is inflated to a pressure above the patients systolic leve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Pressure is continued for several minut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Carpopedal spasm: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* flexion at the wris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* flexion at the MP join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* extension of the IP join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* adduction thumbs/finger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ontent Placeholder 4" descr="art-VentElec_ch13_fig10.jpg"/>
          <p:cNvPicPr/>
          <p:nvPr/>
        </p:nvPicPr>
        <p:blipFill>
          <a:blip r:embed="rId1"/>
          <a:stretch/>
        </p:blipFill>
        <p:spPr>
          <a:xfrm>
            <a:off x="214200" y="1214280"/>
            <a:ext cx="4384800" cy="43387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786200" y="1428480"/>
            <a:ext cx="392904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88c"/>
                </a:solidFill>
                <a:latin typeface="Gill Sans MT"/>
                <a:ea typeface="Arial"/>
              </a:rPr>
              <a:t>Long QT interval with normal T wav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88c"/>
                </a:solidFill>
                <a:latin typeface="Gill Sans MT"/>
                <a:ea typeface="Arial"/>
              </a:rPr>
              <a:t>Prolongation of the ST segment with little shift from the baseli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History that suggests hypocalcemia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Newborns (can be unspecific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Asymptomatic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Lethargy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Poor feeding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Vomiting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Abdominal distention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Childr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Seizures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Twitching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Cramping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Laryngospasm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Etiology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428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onatal hypocalcemia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Gill Sans MT"/>
              </a:rPr>
              <a:t>Early neonatal hypocalcemia</a:t>
            </a:r>
            <a:r>
              <a:rPr b="0" lang="en-US" sz="2300" spc="-1" strike="noStrike">
                <a:solidFill>
                  <a:srgbClr val="666666"/>
                </a:solidFill>
                <a:latin typeface="Gill Sans MT"/>
              </a:rPr>
              <a:t> (48-72 hours)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matu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90000"/>
              </a:lnSpc>
              <a:spcBef>
                <a:spcPts val="400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oor intake, hypoalbuminemia, reduced responsiveness to vitamin D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irth asphyx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90000"/>
              </a:lnSpc>
              <a:spcBef>
                <a:spcPts val="400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lay feeding, increased calcitonin, endogenous phosphate load high, alkali therap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ant to diabetic moth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90000"/>
              </a:lnSpc>
              <a:spcBef>
                <a:spcPts val="400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agnesium depletion → functional hypoparathyroidism → hypocalcemi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UG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Etiology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Late neonatal hypocalcemia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666666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xogenous phosphate lo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400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  <a:ea typeface="Arial"/>
              </a:rPr>
              <a:t>Phosphate-rich formulas / cow’s milk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400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agnesium deficienc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Transient hypoparathyroidism of newbo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Hypoparathyroidis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Gentamycin (24 hourly dosing schedul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Etiology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28556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fants and childre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</a:rPr>
              <a:t>Hypoparathyroidism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paired synthesis / secre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90000"/>
              </a:lnSpc>
              <a:spcBef>
                <a:spcPts val="400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ss/ lack of PTH tissue or defective synthe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lnSpc>
                <a:spcPct val="90000"/>
              </a:lnSpc>
              <a:spcBef>
                <a:spcPts val="400"/>
              </a:spcBef>
              <a:buClr>
                <a:srgbClr val="c9004d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imary or acquired condi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ective calcium sensing recep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 –organ resistance to PTH (pseudohypoparathyroidis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</a:rPr>
              <a:t>Hypovitaminosis D </a:t>
            </a:r>
            <a:r>
              <a:rPr b="0" i="1" lang="en-US" sz="2300" spc="-1" strike="noStrike">
                <a:solidFill>
                  <a:srgbClr val="666666"/>
                </a:solidFill>
                <a:latin typeface="Gill Sans MT"/>
              </a:rPr>
              <a:t>(MUCH MORE COMMON)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</a:rPr>
              <a:t>Hypomagnesemia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</a:rPr>
              <a:t>Other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Synthesis / secretion of PTH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Genetic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Autosomal dominant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Autosomal recessive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X-Linked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HDR (</a:t>
            </a: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hypoparathyroidism associated with sensorineural deafness and renal dysplasia)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DiGeorge's syndrome 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Mitochondrial disorders: 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ill Sans MT"/>
                <a:ea typeface="Arial"/>
              </a:rPr>
              <a:t>MELAS (</a:t>
            </a:r>
            <a:r>
              <a:rPr b="0" lang="en-US" sz="2500" spc="-1" strike="noStrike">
                <a:solidFill>
                  <a:srgbClr val="000000"/>
                </a:solidFill>
                <a:latin typeface="Gill Sans MT"/>
                <a:ea typeface="Arial"/>
              </a:rPr>
              <a:t>mitochondrial encephalopathy, lactic acidosis and stroke-like episode)</a:t>
            </a:r>
            <a:r>
              <a:rPr b="0" lang="en-GB" sz="2500" spc="-1" strike="noStrike">
                <a:solidFill>
                  <a:srgbClr val="000000"/>
                </a:solidFill>
                <a:latin typeface="Gill Sans MT"/>
                <a:ea typeface="Arial"/>
              </a:rPr>
              <a:t>,  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Synthesis / secretio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utoimmu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APECED (</a:t>
            </a: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autoimmune polyendocrinopathy-candidiasis-ectodermal dystrophy</a:t>
            </a: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 syndrome)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Arial"/>
              </a:rPr>
              <a:t>Hypoparathyroidis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Arial"/>
              </a:rPr>
              <a:t>Primary adrenal insufficienc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Arial"/>
              </a:rPr>
              <a:t>Chronic mucocutaneous candidia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Synthesis / secretio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Acquir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Thyroid surgery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Parathyroidectomy 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Iron deposition with chronic transfusions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Wilson’s disease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Gram negative sepsis, toxic shock, AIDS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"/>
                <a:ea typeface="Arial"/>
              </a:rPr>
              <a:t>? Macrophage-generated cytoki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95280" y="1197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Pathophysiolo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Etiolog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Diagnostic approac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Management principl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Pseudohypoparathyroidism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Arial"/>
              </a:rPr>
              <a:t>Target organ insensitivity to PTH (bone / kidney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Hypocalcemia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Hyperphosphatemia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Elevated PTH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Pseudohypoparathyroidism (PHP)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Arial"/>
              </a:rPr>
              <a:t>GNAS1 gene mutations – intracellular sign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Expression in tissues either paternally / maternally determined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66666"/>
                </a:solidFill>
                <a:latin typeface="Gill Sans MT"/>
                <a:ea typeface="Arial"/>
              </a:rPr>
              <a:t>Example: renal expression is maternal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  <a:ea typeface="Arial"/>
              </a:rPr>
              <a:t>Type 1a PH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AD (maternal transmission)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Albright’s hereditary osteodystrophy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Content Placeholder 3" descr="http://www.endotext.org/parathyroid/parathyroid9/figures9/figure2.jpg"/>
          <p:cNvPicPr/>
          <p:nvPr/>
        </p:nvPicPr>
        <p:blipFill>
          <a:blip r:embed="rId1"/>
          <a:stretch/>
        </p:blipFill>
        <p:spPr>
          <a:xfrm>
            <a:off x="357120" y="714240"/>
            <a:ext cx="4786560" cy="56260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5357520" y="0"/>
            <a:ext cx="350028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541800" indent="-2700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666666"/>
              </a:solidFill>
              <a:latin typeface="Gill Sans MT"/>
            </a:endParaRPr>
          </a:p>
          <a:p>
            <a:pPr lvl="1" marL="5418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666666"/>
              </a:solidFill>
              <a:latin typeface="Gill Sans MT"/>
            </a:endParaRPr>
          </a:p>
          <a:p>
            <a:pPr lvl="1" marL="541800" indent="-270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388c"/>
                </a:solidFill>
                <a:uFillTx/>
                <a:latin typeface="Gill Sans MT"/>
              </a:rPr>
              <a:t>Albright’s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hort stature &amp; limb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Obes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Round, flat fa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Short 4e/5e metacarpa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Archibald sig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Brachydacty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otter's thumb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Eye proble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IQ proble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</a:rPr>
              <a:t>Basal ganglia calcification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Pseudopseudohypoparathyroidism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57840" y="1428480"/>
            <a:ext cx="38289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Phenotype of Albright’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NORMAL serum calc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NO PTH resistan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Paternal GNAS1 gene mut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9" name="Picture 3" descr="http://www.endotext.org/parathyroid/parathyroid7/figures7/figure3.jpg"/>
          <p:cNvPicPr/>
          <p:nvPr/>
        </p:nvPicPr>
        <p:blipFill>
          <a:blip r:embed="rId1"/>
          <a:stretch/>
        </p:blipFill>
        <p:spPr>
          <a:xfrm>
            <a:off x="468360" y="1413000"/>
            <a:ext cx="353232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Pseudohypoparathyroidism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Type 1b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Hypocalcemia, no phenotypic abnormality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AD, maternal transmission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Type 1c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Looks like type 1a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Type 2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No features of Albright’s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0" y="428760"/>
          <a:ext cx="9144000" cy="59641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55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HP Ia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HP Ib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HP 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92a7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PH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092a7"/>
                    </a:solidFill>
                  </a:tcPr>
                </a:tc>
              </a:tr>
              <a:tr h="90252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lbright’s phenotype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</a:tr>
              <a:tr h="90252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erum calcium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</a:tr>
              <a:tr h="132300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sponse to PTH cA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L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</a:tr>
              <a:tr h="174348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esponse to Phosphor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N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L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</a:tr>
              <a:tr h="132300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ormone Resistance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ll hormones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TH target tissues only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TH target tissues only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6e7cd"/>
                    </a:solidFill>
                  </a:tcPr>
                </a:tc>
              </a:tr>
              <a:tr h="902520">
                <a:tc>
                  <a:txBody>
                    <a:bodyPr lIns="30600" rIns="30600" tIns="30600" bIns="30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lecular defect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sa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PTH R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nknown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  <a:tc>
                  <a:txBody>
                    <a:bodyPr lIns="30600" rIns="30600" tIns="30600" bIns="30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600" marR="30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a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Hypovitaminosis D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Arial"/>
              </a:rPr>
              <a:t>Decrease intake or producti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Arial"/>
              </a:rPr>
              <a:t>Increased catabolism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Arial"/>
              </a:rPr>
              <a:t>Decrease 25-hydroxylation by liver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  <a:ea typeface="Arial"/>
              </a:rPr>
              <a:t>Decrease 1-hydroxylation by kidne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00720" y="1214280"/>
            <a:ext cx="417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ed closure of fontan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aniotab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ed eruption of tee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ickety rosa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ctus carinatu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rrison sulci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laying of distal ends of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bones bon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ypotoni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aknes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rowth retar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urrent chest infe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6" name="Picture 3" descr="slde2"/>
          <p:cNvPicPr/>
          <p:nvPr/>
        </p:nvPicPr>
        <p:blipFill>
          <a:blip r:embed="rId1"/>
          <a:stretch/>
        </p:blipFill>
        <p:spPr>
          <a:xfrm>
            <a:off x="468360" y="404640"/>
            <a:ext cx="372744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Hypomagnesemia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Magnesium is required for PTH release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May also be required for effects on target organs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Mechanisms: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6666"/>
                </a:solidFill>
                <a:latin typeface="Gill Sans MT"/>
                <a:ea typeface="Arial"/>
              </a:rPr>
              <a:t>End-organ unresponsiveness to PTH</a:t>
            </a:r>
            <a:endParaRPr b="0" lang="en-US" sz="27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6666"/>
                </a:solidFill>
                <a:latin typeface="Gill Sans MT"/>
                <a:ea typeface="Arial"/>
              </a:rPr>
              <a:t>Impaired release of PTH</a:t>
            </a:r>
            <a:endParaRPr b="0" lang="en-US" sz="27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6666"/>
                </a:solidFill>
                <a:latin typeface="Gill Sans MT"/>
                <a:ea typeface="Arial"/>
              </a:rPr>
              <a:t>Impaired formation of 1,25-vitamin D3</a:t>
            </a:r>
            <a:endParaRPr b="0" lang="en-US" sz="2700" spc="-1" strike="noStrike">
              <a:solidFill>
                <a:srgbClr val="666666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Hypomagnesemia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Primary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Autosomal recessive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Present at 1 month age with seizures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66666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Secondary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66"/>
                </a:solidFill>
                <a:latin typeface="Gill Sans MT"/>
                <a:ea typeface="Arial"/>
              </a:rPr>
              <a:t>Intestinal absorption vs renal excretion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Introductio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95280" y="1700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Calcium is the most abundant mineral in the bod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In pediatric ICU, hypocalcemia has higher mortality then normocalcemi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We are interested in ionized calcium lev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Other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Pancreatitis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Citrated products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Hungry bone syndrome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Hyperphosphatemia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Fluoride poisoning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Bookman Old Style"/>
              </a:rPr>
              <a:t>Other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Hungry bone syndrome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66"/>
                </a:solidFill>
                <a:latin typeface="Gill Sans MT"/>
                <a:ea typeface="Arial"/>
              </a:rPr>
              <a:t>After prolonged period of calcium absorption</a:t>
            </a:r>
            <a:endParaRPr b="0" lang="en-US" sz="3100" spc="-1" strike="noStrike">
              <a:solidFill>
                <a:srgbClr val="666666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66"/>
                </a:solidFill>
                <a:latin typeface="Gill Sans MT"/>
                <a:ea typeface="Arial"/>
              </a:rPr>
              <a:t>Rebound phase</a:t>
            </a:r>
            <a:endParaRPr b="0" lang="en-US" sz="3100" spc="-1" strike="noStrike">
              <a:solidFill>
                <a:srgbClr val="666666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66"/>
                </a:solidFill>
                <a:latin typeface="Gill Sans MT"/>
                <a:ea typeface="Arial"/>
              </a:rPr>
              <a:t>Avid uptake of calcium by bone</a:t>
            </a:r>
            <a:endParaRPr b="0" lang="en-US" sz="3100" spc="-1" strike="noStrike">
              <a:solidFill>
                <a:srgbClr val="666666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666666"/>
                </a:solidFill>
                <a:latin typeface="Gill Sans MT"/>
                <a:ea typeface="Arial"/>
              </a:rPr>
              <a:t>Parallel uptake of magnesium by bone</a:t>
            </a:r>
            <a:endParaRPr b="0" lang="en-US" sz="3100" spc="-1" strike="noStrike">
              <a:solidFill>
                <a:srgbClr val="666666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666666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Following parathyroidectomy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Workup - blood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Total and ionized calcium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Magnesium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Phosphate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UKE and s-glucose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PTH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Vitamin D metabolite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Urine-CMP and –creatinine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S-ALP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Workup - imaging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CXR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Ankle and wrist XR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Workup - other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ECG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Malabsorption workup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 MT"/>
                <a:ea typeface="Arial"/>
              </a:rPr>
              <a:t>Karyotyping and family screening</a:t>
            </a:r>
            <a:endParaRPr b="0" lang="en-US" sz="3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Management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01"/>
              </a:spcBef>
              <a:buClr>
                <a:srgbClr val="ff388c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Gill Sans MT"/>
                <a:ea typeface="Arial"/>
              </a:rPr>
              <a:t>Dependent on the underlying cause and severit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95360">
              <a:spcBef>
                <a:spcPts val="601"/>
              </a:spcBef>
              <a:buClr>
                <a:srgbClr val="ff388c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Gill Sans MT"/>
                <a:ea typeface="Arial"/>
              </a:rPr>
              <a:t>Administration of calcium alone is only transiently effectiv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95360">
              <a:spcBef>
                <a:spcPts val="601"/>
              </a:spcBef>
              <a:buClr>
                <a:srgbClr val="ff388c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Gill Sans MT"/>
                <a:ea typeface="Arial"/>
              </a:rPr>
              <a:t>Mild asymptomatic cases: Often adequate to increase dietary calcium by 1000 mg/da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95360">
              <a:spcBef>
                <a:spcPts val="601"/>
              </a:spcBef>
              <a:buClr>
                <a:srgbClr val="ff388c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Gill Sans MT"/>
                <a:ea typeface="Arial"/>
              </a:rPr>
              <a:t>Symptomatic: Treat immediately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495360" indent="-495360">
              <a:spcBef>
                <a:spcPts val="601"/>
              </a:spcBef>
              <a:buClr>
                <a:srgbClr val="ff388c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28400" y="500040"/>
            <a:ext cx="70102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Treatment of hypocalcaemia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96920" y="1071720"/>
            <a:ext cx="87487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cc00"/>
                </a:solidFill>
                <a:latin typeface="Gill Sans MT"/>
                <a:ea typeface="Arial"/>
              </a:rPr>
              <a:t>	</a:t>
            </a:r>
            <a:r>
              <a:rPr b="0" lang="en-ZA" sz="2700" spc="-1" strike="noStrike">
                <a:solidFill>
                  <a:srgbClr val="ffcc00"/>
                </a:solidFill>
                <a:latin typeface="Gill Sans MT"/>
                <a:ea typeface="Arial"/>
              </a:rPr>
              <a:t>Symptomatic hypocalcaemia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IV Calcium should only be given with close monitoring</a:t>
            </a:r>
            <a:endParaRPr b="0" lang="en-US" sz="21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Should be on cardiac monitor</a:t>
            </a:r>
            <a:endParaRPr b="0" lang="en-US" sz="21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Mix with NaCl or 5 % D/W (not bicarbonate/lactate containing solutions)</a:t>
            </a:r>
            <a:endParaRPr b="0" lang="en-US" sz="21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700" spc="-1" strike="noStrike">
                <a:solidFill>
                  <a:srgbClr val="ffcc00"/>
                </a:solidFill>
                <a:latin typeface="Gill Sans MT"/>
                <a:ea typeface="Arial"/>
              </a:rPr>
              <a:t>	</a:t>
            </a:r>
            <a:r>
              <a:rPr b="0" lang="en-ZA" sz="2700" spc="-1" strike="noStrike">
                <a:solidFill>
                  <a:srgbClr val="ffcc00"/>
                </a:solidFill>
                <a:latin typeface="Gill Sans MT"/>
                <a:ea typeface="Arial"/>
              </a:rPr>
              <a:t>Risks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Tissue necrosis/calcification if extravasates</a:t>
            </a:r>
            <a:endParaRPr b="0" lang="en-US" sz="21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Calcium can inhibit sinus node </a:t>
            </a:r>
            <a:r>
              <a:rPr b="0" lang="en-ZA" sz="2100" spc="-1" strike="noStrike">
                <a:solidFill>
                  <a:srgbClr val="666666"/>
                </a:solidFill>
                <a:latin typeface="Symbol"/>
                <a:ea typeface="Symbol"/>
              </a:rPr>
              <a:t></a:t>
            </a: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 bradycardia + arrest</a:t>
            </a:r>
            <a:endParaRPr b="0" lang="en-US" sz="2100" spc="-1" strike="noStrike">
              <a:solidFill>
                <a:srgbClr val="666666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0000"/>
                </a:solidFill>
                <a:latin typeface="Gill Sans MT"/>
                <a:ea typeface="Arial"/>
              </a:rPr>
              <a:t>Stop infusion if bradycardia develop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Avoid complete correction of hypocalcaemia</a:t>
            </a:r>
            <a:endParaRPr b="0" lang="en-US" sz="21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With acidosis and </a:t>
            </a:r>
            <a:r>
              <a:rPr b="0" lang="en-ZA" sz="2100" spc="-1" strike="noStrike">
                <a:solidFill>
                  <a:srgbClr val="666666"/>
                </a:solidFill>
                <a:latin typeface="Symbol"/>
                <a:ea typeface="Symbol"/>
              </a:rPr>
              <a:t></a:t>
            </a: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 S-Ca – give Ca before correcting acidosis </a:t>
            </a:r>
            <a:endParaRPr b="0" lang="en-US" sz="21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If </a:t>
            </a:r>
            <a:r>
              <a:rPr b="0" lang="en-ZA" sz="2100" spc="-1" strike="noStrike">
                <a:solidFill>
                  <a:srgbClr val="666666"/>
                </a:solidFill>
                <a:latin typeface="Symbol"/>
                <a:ea typeface="Symbol"/>
              </a:rPr>
              <a:t></a:t>
            </a: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 Mg is cause of </a:t>
            </a:r>
            <a:r>
              <a:rPr b="0" lang="en-ZA" sz="2100" spc="-1" strike="noStrike">
                <a:solidFill>
                  <a:srgbClr val="666666"/>
                </a:solidFill>
                <a:latin typeface="Symbol"/>
                <a:ea typeface="Symbol"/>
              </a:rPr>
              <a:t></a:t>
            </a:r>
            <a:r>
              <a:rPr b="0" lang="en-ZA" sz="2100" spc="-1" strike="noStrike">
                <a:solidFill>
                  <a:srgbClr val="666666"/>
                </a:solidFill>
                <a:latin typeface="Gill Sans MT"/>
                <a:ea typeface="Arial"/>
              </a:rPr>
              <a:t> S-Ca – treat and correct hypomagnesaemia</a:t>
            </a:r>
            <a:endParaRPr b="0" lang="en-US" sz="2100" spc="-1" strike="noStrike">
              <a:solidFill>
                <a:srgbClr val="6666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0102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Treatment of hypocalcaemia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14200" y="1428840"/>
            <a:ext cx="87487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cc00"/>
                </a:solidFill>
                <a:latin typeface="Gill Sans MT"/>
                <a:ea typeface="Arial"/>
              </a:rPr>
              <a:t>	</a:t>
            </a:r>
            <a:r>
              <a:rPr b="0" lang="en-ZA" sz="2600" spc="-1" strike="noStrike">
                <a:solidFill>
                  <a:srgbClr val="ffcc00"/>
                </a:solidFill>
                <a:latin typeface="Gill Sans MT"/>
                <a:ea typeface="Arial"/>
              </a:rPr>
              <a:t>  </a:t>
            </a:r>
            <a:r>
              <a:rPr b="0" lang="en-ZA" sz="2600" spc="-1" strike="noStrike">
                <a:solidFill>
                  <a:srgbClr val="ffcc00"/>
                </a:solidFill>
                <a:latin typeface="Gill Sans MT"/>
                <a:ea typeface="Arial"/>
              </a:rPr>
              <a:t>Symptomatic hypocalcaem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ZA" sz="2800" spc="-1" strike="noStrike">
                <a:solidFill>
                  <a:srgbClr val="000000"/>
                </a:solidFill>
                <a:latin typeface="Gill Sans MT"/>
                <a:ea typeface="Arial"/>
              </a:rPr>
              <a:t>Early neonatal hypocalcaemia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Neonates: Ca gluconate:10 mg/kg (1 ml/kg of 10% solution) Slowly IV + monitoring ECG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Occasionally associated transient hypomagnesaemia 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Gill Sans MT"/>
                <a:ea typeface="Arial"/>
              </a:rPr>
              <a:t>Treat prior to Ca administr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Start oral Calcium as soon as possible 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Early neonatal hypocalcaemia normalizes in 2-3 days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Oral Ca usually necessary for 1 week 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0102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Treatment of hypocalcaemia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00040" y="1785600"/>
            <a:ext cx="75614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cc00"/>
                </a:solidFill>
                <a:latin typeface="Gill Sans MT"/>
                <a:ea typeface="Arial"/>
              </a:rPr>
              <a:t>	</a:t>
            </a:r>
            <a:r>
              <a:rPr b="0" lang="en-ZA" sz="2600" spc="-1" strike="noStrike">
                <a:solidFill>
                  <a:srgbClr val="ffcc00"/>
                </a:solidFill>
                <a:latin typeface="Gill Sans MT"/>
                <a:ea typeface="Arial"/>
              </a:rPr>
              <a:t>Symptomatic hypocalcaem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Gill Sans MT"/>
                <a:ea typeface="Arial"/>
              </a:rPr>
              <a:t>Late neonatal hypocalcaemia</a:t>
            </a:r>
            <a:endParaRPr b="0" lang="en-US" sz="28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Associated with </a:t>
            </a:r>
            <a:r>
              <a:rPr b="0" lang="en-ZA" sz="2300" spc="-1" strike="noStrike">
                <a:solidFill>
                  <a:srgbClr val="666666"/>
                </a:solidFill>
                <a:latin typeface="Symbol"/>
                <a:ea typeface="Symbol"/>
              </a:rPr>
              <a:t></a:t>
            </a: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 S-phosphate 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Decrease phosphate intake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Give calcium containing phosphate binder 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Oral calcium (gluconate) supplementation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100 mg/kg/dose 4 hourly per os 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99720" y="285480"/>
            <a:ext cx="70102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666666"/>
                </a:solidFill>
                <a:latin typeface="Bookman Old Style"/>
              </a:rPr>
              <a:t>Hypocalcaemia in older children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24000" y="1571400"/>
            <a:ext cx="88200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190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ZA" sz="2400" spc="-1" strike="noStrike">
                <a:solidFill>
                  <a:srgbClr val="000000"/>
                </a:solidFill>
                <a:latin typeface="Gill Sans MT"/>
                <a:ea typeface="Arial"/>
              </a:rPr>
              <a:t>Same dose IV as for neonat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190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ZA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ore often require continuous infu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190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ZA" sz="2400" spc="-1" strike="noStrike">
                <a:solidFill>
                  <a:srgbClr val="000000"/>
                </a:solidFill>
                <a:latin typeface="Gill Sans MT"/>
                <a:ea typeface="Arial"/>
              </a:rPr>
              <a:t>Oral supplementation 50 mg/kg/24 hr elemental C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190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666666"/>
                </a:solidFill>
                <a:latin typeface="Gill Sans MT"/>
                <a:ea typeface="Arial"/>
              </a:rPr>
              <a:t> </a:t>
            </a:r>
            <a:r>
              <a:rPr b="0" lang="en-ZA" sz="2200" spc="-1" strike="noStrike">
                <a:solidFill>
                  <a:srgbClr val="666666"/>
                </a:solidFill>
                <a:latin typeface="Gill Sans MT"/>
                <a:ea typeface="Arial"/>
              </a:rPr>
              <a:t>Ca binds with phosphate in gut </a:t>
            </a:r>
            <a:r>
              <a:rPr b="0" lang="en-ZA" sz="2200" spc="-1" strike="noStrike">
                <a:solidFill>
                  <a:srgbClr val="666666"/>
                </a:solidFill>
                <a:latin typeface="Symbol"/>
                <a:ea typeface="Symbol"/>
              </a:rPr>
              <a:t></a:t>
            </a:r>
            <a:r>
              <a:rPr b="0" lang="en-ZA" sz="2200" spc="-1" strike="noStrike">
                <a:solidFill>
                  <a:srgbClr val="666666"/>
                </a:solidFill>
                <a:latin typeface="Gill Sans MT"/>
                <a:ea typeface="Arial"/>
              </a:rPr>
              <a:t> </a:t>
            </a:r>
            <a:r>
              <a:rPr b="0" lang="en-ZA" sz="2200" spc="-1" strike="noStrike">
                <a:solidFill>
                  <a:srgbClr val="666666"/>
                </a:solidFill>
                <a:latin typeface="Symbol"/>
                <a:ea typeface="Symbol"/>
              </a:rPr>
              <a:t></a:t>
            </a:r>
            <a:r>
              <a:rPr b="0" lang="en-ZA" sz="2200" spc="-1" strike="noStrike">
                <a:solidFill>
                  <a:srgbClr val="666666"/>
                </a:solidFill>
                <a:latin typeface="Gill Sans MT"/>
                <a:ea typeface="Arial"/>
              </a:rPr>
              <a:t> Ca absorption </a:t>
            </a:r>
            <a:endParaRPr b="0" lang="en-US" sz="22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190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666666"/>
                </a:solidFill>
                <a:latin typeface="Gill Sans MT"/>
                <a:ea typeface="Arial"/>
              </a:rPr>
              <a:t> </a:t>
            </a:r>
            <a:r>
              <a:rPr b="0" lang="en-ZA" sz="2200" spc="-1" strike="noStrike">
                <a:solidFill>
                  <a:srgbClr val="666666"/>
                </a:solidFill>
                <a:latin typeface="Gill Sans MT"/>
                <a:ea typeface="Arial"/>
              </a:rPr>
              <a:t>Advantage in conditions with </a:t>
            </a:r>
            <a:r>
              <a:rPr b="0" lang="en-ZA" sz="2200" spc="-1" strike="noStrike">
                <a:solidFill>
                  <a:srgbClr val="666666"/>
                </a:solidFill>
                <a:latin typeface="Symbol"/>
                <a:ea typeface="Symbol"/>
              </a:rPr>
              <a:t></a:t>
            </a:r>
            <a:r>
              <a:rPr b="0" lang="en-ZA" sz="2200" spc="-1" strike="noStrike">
                <a:solidFill>
                  <a:srgbClr val="666666"/>
                </a:solidFill>
                <a:latin typeface="Gill Sans MT"/>
                <a:ea typeface="Arial"/>
              </a:rPr>
              <a:t> s-phosphate</a:t>
            </a:r>
            <a:r>
              <a:rPr b="0" lang="en-ZA" sz="2300" spc="-1" strike="noStrike">
                <a:solidFill>
                  <a:srgbClr val="666666"/>
                </a:solidFill>
                <a:latin typeface="Gill Sans MT"/>
                <a:ea typeface="Arial"/>
              </a:rPr>
              <a:t> 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2" marL="119232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Gill Sans MT"/>
                <a:ea typeface="Arial"/>
              </a:rPr>
              <a:t>Renal failur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9232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Gill Sans MT"/>
                <a:ea typeface="Arial"/>
              </a:rPr>
              <a:t>Hypoparathyroidism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9232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Gill Sans MT"/>
                <a:ea typeface="Arial"/>
              </a:rPr>
              <a:t>Tumor lysi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190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0" lang="en-ZA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ost need Vit D supple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19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9680" y="-360"/>
            <a:ext cx="507204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Calcium homeostasis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pic>
        <p:nvPicPr>
          <p:cNvPr id="357" name="Content Placeholder 3" descr="calciumgroot1.jpg"/>
          <p:cNvPicPr/>
          <p:nvPr/>
        </p:nvPicPr>
        <p:blipFill>
          <a:blip r:embed="rId1"/>
          <a:stretch/>
        </p:blipFill>
        <p:spPr>
          <a:xfrm>
            <a:off x="357120" y="785880"/>
            <a:ext cx="8429760" cy="55008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3"/>
          <p:cNvSpPr/>
          <p:nvPr/>
        </p:nvSpPr>
        <p:spPr>
          <a:xfrm>
            <a:off x="714240" y="633420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Regulation of parathyroid function by calcimimetic compo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E. Nemeth,  </a:t>
            </a:r>
            <a:r>
              <a:rPr b="0" i="1" lang="en-US" sz="1400" spc="-1" strike="noStrike">
                <a:solidFill>
                  <a:srgbClr val="ffffff"/>
                </a:solidFill>
                <a:latin typeface="Gill Sans MT"/>
              </a:rPr>
              <a:t>http://www.ndt-educational.org/nemethslide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2160" y="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Content Placeholder 3" descr="calcium%20regulation.jpg"/>
          <p:cNvPicPr/>
          <p:nvPr/>
        </p:nvPicPr>
        <p:blipFill>
          <a:blip r:embed="rId1"/>
          <a:stretch/>
        </p:blipFill>
        <p:spPr>
          <a:xfrm>
            <a:off x="428760" y="71280"/>
            <a:ext cx="8286480" cy="6215400"/>
          </a:xfrm>
          <a:prstGeom prst="rect">
            <a:avLst/>
          </a:prstGeom>
          <a:ln w="0">
            <a:noFill/>
          </a:ln>
        </p:spPr>
      </p:pic>
      <p:sp>
        <p:nvSpPr>
          <p:cNvPr id="361" name="TextBox 2"/>
          <p:cNvSpPr/>
          <p:nvPr/>
        </p:nvSpPr>
        <p:spPr>
          <a:xfrm>
            <a:off x="6072120" y="6429240"/>
            <a:ext cx="3071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714240" y="6334200"/>
            <a:ext cx="757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MT"/>
              </a:rPr>
              <a:t>Introduction to Anatomy and Physiology, </a:t>
            </a:r>
            <a:r>
              <a:rPr b="0" i="1" lang="en-US" sz="1400" spc="-1" strike="noStrike">
                <a:solidFill>
                  <a:srgbClr val="ffffff"/>
                </a:solidFill>
                <a:latin typeface="Gill Sans MT"/>
              </a:rPr>
              <a:t>http://ncwcbio101.wordpress.com/2008/11/23/14-introduction-to-anatomy-and-physiology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Pathophysiology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Ionized calcium is affected by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Albumin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Blood pH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Serum phosphate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Serum magnesium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Serum bicarbonate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Exogenous factors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Citrate / free fatty acids (TP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Why do we need it?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8360" y="1700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Calcium messenger system – regulates cell func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Activates cellular enzyme cascad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Smooth muscle and myocardial contrac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Nerve impulse conduc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Secretory activity of exocrine gland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Bookman Old Style"/>
                <a:ea typeface="Times New Roman"/>
              </a:rPr>
              <a:t>Symptoms and signs of hypocalcemia</a:t>
            </a:r>
            <a:endParaRPr b="0" lang="en-US" sz="3200" spc="-1" strike="noStrike">
              <a:solidFill>
                <a:srgbClr val="666666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9528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Neuromuscular irritabilit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  <a:ea typeface="Arial"/>
              </a:rPr>
              <a:t>Paresthesia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  <a:ea typeface="Arial"/>
              </a:rPr>
              <a:t>Laryngospasm / Bronchospas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  <a:ea typeface="Arial"/>
              </a:rPr>
              <a:t>Tetan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  <a:ea typeface="Arial"/>
              </a:rPr>
              <a:t>Seizu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  <a:ea typeface="Arial"/>
              </a:rPr>
              <a:t>Chvostek sig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  <a:ea typeface="Arial"/>
              </a:rPr>
              <a:t>Trousseau sig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ill Sans MT"/>
                <a:ea typeface="Arial"/>
              </a:rPr>
              <a:t>Prolonged QTc time on EC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28760" y="1213920"/>
            <a:ext cx="82296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Tetany is not caused by increased excitability of the muscles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Muscle excitability is depressed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e4005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66666"/>
                </a:solidFill>
                <a:latin typeface="Gill Sans MT"/>
                <a:ea typeface="Arial"/>
              </a:rPr>
              <a:t>hypocalcemia impedes ACh release at NM junctions </a:t>
            </a:r>
            <a:endParaRPr b="0" lang="en-US" sz="2300" spc="-1" strike="noStrike">
              <a:solidFill>
                <a:srgbClr val="666666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  <a:ea typeface="Arial"/>
              </a:rPr>
              <a:t>However, the increase in neuronal excitability overrides the inhibition of muscle contraction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9:01:16Z</dcterms:created>
  <dc:creator>Nicolette du Plessis</dc:creator>
  <dc:description/>
  <dc:language>en-US</dc:language>
  <cp:lastModifiedBy>f og</cp:lastModifiedBy>
  <dcterms:modified xsi:type="dcterms:W3CDTF">2017-04-30T18:59:42Z</dcterms:modified>
  <cp:revision>69</cp:revision>
  <dc:subject/>
  <dc:title>Hypocalcemia</dc:title>
</cp:coreProperties>
</file>